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FD1-5D38-43C1-B01D-791AA8E31B9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F6A-B3FA-4E46-87A6-1748B1F6BA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5931-D4C7-45DB-8F19-6576AE119B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15A-111E-4C74-82F8-1ABCDF3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FC8-8B2B-45B9-9CD0-6A18C1D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467-B5E1-4485-A64D-2FACCCD9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33C-978E-4AF8-8404-CEC65666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C29-C5DC-49FA-8CDB-B6CF6FA0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46D-978E-4ECA-BC42-2FF6EF98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5B82-8A39-45EF-8260-74452E8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162-1DB2-4D0F-ABD3-AAFD0F6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BAD-8A45-42C2-B1AB-8A4CD484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E8A-FAD0-4529-AA44-2FA9977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2263-7E5F-4630-9444-CC6FEA7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C83-B9D2-43CC-90D1-00CDCFD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3DC7-61C3-4480-A282-5DC0161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52C8-EA19-4CA6-A096-12BBD02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7D0-293B-4129-BFEE-A4E63E7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E0B-4B03-48E9-B8C3-5F973A3C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623-899E-47FF-A288-AA2A0572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88A-4934-4FDD-8ABE-BC2AAB69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3E9-FAF0-441F-A4CD-F102BF8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036-42B1-4FE2-8455-5A76AD8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BC9-32BF-48CD-A051-C855172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05B-C3F9-4CA0-8A75-6E27532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E1E-6B27-4981-B258-5618513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47A-DB27-441D-A2CB-ABC888DD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4239-2ED0-4D1D-9FF0-B31D1FFDE89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B8E8-735A-489F-A06B-A1D8F19657C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764640"/>
            <a:ext cx="4716360" cy="26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emokracja ateńska w czasach Perykles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www.ceo.org.pl/sites/default/files/KOSS/davGallery/KOSS_zajawki_2/demokracja.jpg"/>
          <p:cNvPicPr/>
          <p:nvPr/>
        </p:nvPicPr>
        <p:blipFill>
          <a:blip r:embed="rId1"/>
          <a:stretch/>
        </p:blipFill>
        <p:spPr>
          <a:xfrm>
            <a:off x="4859280" y="1557360"/>
            <a:ext cx="4310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ryk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38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erykles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eński mąż stanu, świetny wódz i zdolny mówca, pochodzący (przez matkę Agarystę) z arystokratycznego rodu Alkmeonidów (syn Ksantyposa, kuzyn Klejstenes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perykles"/>
          <p:cNvPicPr/>
          <p:nvPr/>
        </p:nvPicPr>
        <p:blipFill>
          <a:blip r:embed="rId1"/>
          <a:stretch/>
        </p:blipFill>
        <p:spPr>
          <a:xfrm>
            <a:off x="4618080" y="1108080"/>
            <a:ext cx="3378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del funkcjonowania demokracji ateń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idzew_stoki.republika.pl/klasa_I/pliki/ustroj_Aten.jpg"/>
          <p:cNvPicPr/>
          <p:nvPr/>
        </p:nvPicPr>
        <p:blipFill>
          <a:blip r:embed="rId1"/>
          <a:stretch/>
        </p:blipFill>
        <p:spPr>
          <a:xfrm>
            <a:off x="324000" y="1341360"/>
            <a:ext cx="8137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ateńska- wa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12500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i ( posiadających prawa) było  ok. 40 tys. na 250 tys. Ateńczyków. A więc czy na pewno rządziła większ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ami byli jedynie wolni mężczyźni, którzy ukończyli 20 lat i mają oboje rodziców Ateńczyków, natomiast kobiety, niewolnicy, wyzwoleńcy i metojkowie (osiedleni w Atenach cudzoziemcy) byli na marginesie życia polityczne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nadto zgromadzenia obywateli odbywały się kilka razy w miesiącu i często wiązały się z wysokimi kosztami dojazdów, a część obywateli musiała większość czasu poświęcać na pracę zawodową. Dlatego więc wielu z nich nie brało czynnego udziału w życiu politycz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ąd skorupkowy na wygnanie lub śmierć skazywał też wybitnych ludzi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magodzy i sykofan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blog-wszystko-tematyczny.blog.onet.pl/files/2012/11/demoskratos.jpg"/>
          <p:cNvPicPr/>
          <p:nvPr/>
        </p:nvPicPr>
        <p:blipFill>
          <a:blip r:embed="rId1"/>
          <a:stretch/>
        </p:blipFill>
        <p:spPr>
          <a:xfrm>
            <a:off x="4765680" y="1125360"/>
            <a:ext cx="41292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Sokrates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galeria.malarstwa.pl/obrazy/1110929.jpg"/>
          <p:cNvPicPr/>
          <p:nvPr/>
        </p:nvPicPr>
        <p:blipFill>
          <a:blip r:embed="rId1"/>
          <a:stretch/>
        </p:blipFill>
        <p:spPr>
          <a:xfrm>
            <a:off x="250920" y="1341360"/>
            <a:ext cx="487188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info-poster.eu/wp-content/uploads/2012/06/sokrates.jpeg"/>
          <p:cNvPicPr/>
          <p:nvPr/>
        </p:nvPicPr>
        <p:blipFill>
          <a:blip r:embed="rId2"/>
          <a:stretch/>
        </p:blipFill>
        <p:spPr>
          <a:xfrm>
            <a:off x="5435640" y="127152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640"/>
            <a:ext cx="4619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olność dział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upcja (łapówki, przekupstwa) – Fidia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rak stabilności rzą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y między siłami politycznymi oraz ich zwolennik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hwianie pierwotnych założeń demokracji np. wolności -szykanowanie za wiarę, sposób b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paulina.friko.pl/atena%20partenos-fidiasz.jpg"/>
          <p:cNvPicPr/>
          <p:nvPr/>
        </p:nvPicPr>
        <p:blipFill>
          <a:blip r:embed="rId1"/>
          <a:stretch/>
        </p:blipFill>
        <p:spPr>
          <a:xfrm>
            <a:off x="5292720" y="260280"/>
            <a:ext cx="260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zale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nie obywatelom praw do wolności osobiste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ówności wobec praw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osobist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 sło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eroki dostęp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obywateli na władzę w państ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iety dla najuboższych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20280"/>
            <a:ext cx="505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żdy obywatel ma prawo wyboru, do odwołania się od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zadawalającej decyzji i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ządek, ustalenie odpowiednich praw, które przyczyniają się do sprawnego funkcjonowania w państw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enie zainteresowań politycznych mieszkańców po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iększenie aktywności obywa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kultury i myśli filozofi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mokracja bezpośrednia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fotoforum.gazeta.pl/photo/5/oi/qh/fmgs/5Y3DQKSltbdoNkhohX.jpg"/>
          <p:cNvPicPr/>
          <p:nvPr/>
        </p:nvPicPr>
        <p:blipFill>
          <a:blip r:embed="rId1"/>
          <a:stretch/>
        </p:blipFill>
        <p:spPr>
          <a:xfrm>
            <a:off x="5357880" y="765000"/>
            <a:ext cx="3503520" cy="262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pload.wikimedia.org/wikipedia/commons/thumb/a/a1/Athens_Roman_Agora_4-2004_1.JPG/300px-Athens_Roman_Agora_4-2004_1.JPG"/>
          <p:cNvPicPr/>
          <p:nvPr/>
        </p:nvPicPr>
        <p:blipFill>
          <a:blip r:embed="rId2"/>
          <a:stretch/>
        </p:blipFill>
        <p:spPr>
          <a:xfrm>
            <a:off x="5435640" y="3749760"/>
            <a:ext cx="31017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7"/>
          <p:cNvSpPr/>
          <p:nvPr/>
        </p:nvSpPr>
        <p:spPr>
          <a:xfrm>
            <a:off x="611280" y="549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8"/>
          <p:cNvSpPr/>
          <p:nvPr/>
        </p:nvSpPr>
        <p:spPr>
          <a:xfrm>
            <a:off x="755640" y="1197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portalwiedzy.onet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galeria.malarstwa.pl/obraz,929,smierc-Sokrates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ntiquitates.blox.pl/tagi_b/4086/Ateny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nfo-poster.eu/?attachment_id=45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aulina.friko.pl/artysci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log-wszystko-tematyczny.blog.onet.pl/2012/11/07/demokracja-regulow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tos</cp:lastModifiedBy>
  <dcterms:modified xsi:type="dcterms:W3CDTF">2013-06-14T06:25:44Z</dcterms:modified>
  <cp:revision>15</cp:revision>
  <dc:subject/>
  <dc:title>Slajd 1</dc:title>
</cp:coreProperties>
</file>